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FCB-3D03-4266-BDA4-03B5C29F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857-41AB-431E-BB39-44E4795C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BFA-FB76-42BD-9871-367BD370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7A4-0DFE-480D-A5E4-6DD16334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86E-1383-4C62-B191-668C46E0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537-464A-45D7-8383-67CB7CBC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EB0-2F34-4561-B76B-A21C04BC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447-5169-42CD-BEC8-3D50D9FF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534-EEF6-4CCB-9217-BE23851C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EA6-1769-4DA7-A281-C0A3B117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958-C0DE-4C19-8EC7-C819D530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28E-7457-40EC-A667-07643EF3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8380-121C-4F2C-B8EC-2F17BB00AC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3400" y="914400"/>
            <a:ext cx="6022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Mat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hind the Ra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05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33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81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10280" y="5791320"/>
            <a:ext cx="1676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162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2:10Z</dcterms:modified>
  <cp:revision>218</cp:revision>
  <dc:subject/>
  <dc:title>Slide 1</dc:title>
</cp:coreProperties>
</file>